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EE5-42B6-4F91-A405-A47E29AE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0640-8B25-427A-ADEA-140674B0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08EA-FE9F-43FB-B051-EAF306F1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DBF-D401-4B24-B77B-13D28B4C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A272-2CC8-4A7B-97F2-9FF9F334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402E-4F8E-4B95-AADA-458FC560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00C5-0D43-42FD-A676-2510C774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5006F-D87B-4146-AF33-86C664E7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6541-AAF3-4B40-921F-DC02B741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899A-A09C-444D-8EDD-BE09342F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57C2-9358-4FEE-A808-2204C4A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ECB-B7F6-446D-B759-E8A736D4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8736-34A4-4F3F-A326-5EE42161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9E47-C3D1-48A3-8146-75380A3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DC92-CCEA-4CBD-9AB9-74CA176B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5354-D0BD-4C1A-81D6-DC5D3728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BE8A-BC9D-4D92-B7F7-700397D3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5ADF-FBCE-4E58-949F-91744291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E69-9773-4048-9C73-6E427AD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E0A-6CFB-4F39-8F5C-3E1FB6BC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477D-1C55-40BB-8EE9-54191853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3FB9-5F9D-4C9A-A4C3-95688B5C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60E-008E-4433-9CB9-8787209C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8BA-8AF8-4C54-8462-4892C524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012A-5DA3-418B-A8F1-D93F75C96C14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4B1E-E3E0-4A2F-9ACB-EC0C0D5506BE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INTRODUCTION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Characteristics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of Korean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Name of the language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Korea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International name following the country name  using this language; they are Republic of Korea (south) and People’s Republic of Korea (north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Hangug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After the name, Hangug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한국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 which ROK people calls their own country. ‘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’ means language.  Often called simply Gugeo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국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Joseonma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Following the name Joseo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조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, by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which PRK people calls theit own country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oryeoeo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: The Korean used among the Korean people, Goryeoin (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고려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in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old USSR regio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People who speaks Korean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ca. 78 mill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ROK, PRK (the native languag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Yanbian Korean Autonomous Prefecture in People's Republic of China (official language with Chinese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 immigrant societies in Central Asia, Japan, USA etc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732520" cy="383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208560" y="3789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3"/>
          <p:cNvSpPr/>
          <p:nvPr/>
        </p:nvSpPr>
        <p:spPr>
          <a:xfrm>
            <a:off x="7020000" y="1628640"/>
            <a:ext cx="504720" cy="505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직선 연결선 5"/>
          <p:cNvSpPr/>
          <p:nvPr/>
        </p:nvSpPr>
        <p:spPr>
          <a:xfrm flipH="1">
            <a:off x="6208560" y="2133720"/>
            <a:ext cx="8114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직선 연결선 7"/>
          <p:cNvSpPr/>
          <p:nvPr/>
        </p:nvSpPr>
        <p:spPr>
          <a:xfrm>
            <a:off x="7524720" y="2133720"/>
            <a:ext cx="153180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53640" y="4643280"/>
            <a:ext cx="49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Distribution of Korean-speaking popu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5292720" y="602136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Kor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erlin Sans FB"/>
                <a:ea typeface="굴림"/>
              </a:rPr>
              <a:t>diale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직사각형 10"/>
          <p:cNvSpPr/>
          <p:nvPr/>
        </p:nvSpPr>
        <p:spPr>
          <a:xfrm>
            <a:off x="574560" y="6307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rom http://en.wikipedia.org/wiki/Korean_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Classification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solated? (Song, 2005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taic? (Ramstedt, 1928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Writing</a:t>
            </a:r>
            <a:r>
              <a:rPr b="0" lang="ko-KR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yste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angul – a phonogram (&lt;--&gt; ideogram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ound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llophone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숨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낫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rphophonemic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을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이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Linking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맞이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마지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Other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rammar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gglutinative  language – most words are formed by joining morphemes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다 </a:t>
            </a:r>
            <a:r>
              <a:rPr b="0" lang="ko-K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간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갔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갈까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?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가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tructure of S + O or C + V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나는 당신을 좋아합니다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Speech levels &amp; honorifics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존댓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inferior) &lt;-&gt;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반말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from superior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먹다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라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어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먹으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Berlin Sans FB"/>
                <a:ea typeface="굴림"/>
              </a:rPr>
              <a:t>드세요</a:t>
            </a:r>
            <a:endParaRPr b="1" lang="en-US" sz="1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REPUBLIC OF KOREA 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(</a:t>
            </a:r>
            <a:r>
              <a:rPr b="0" lang="ko-KR" sz="1800" spc="-1" strike="noStrike">
                <a:solidFill>
                  <a:srgbClr val="274e75"/>
                </a:solidFill>
                <a:latin typeface="Impact"/>
                <a:ea typeface="굴림"/>
              </a:rPr>
              <a:t>대한민국</a:t>
            </a:r>
            <a:r>
              <a:rPr b="0" lang="en-US" sz="1800" spc="-1" strike="noStrike">
                <a:solidFill>
                  <a:srgbClr val="274e75"/>
                </a:solidFill>
                <a:latin typeface="Impact"/>
                <a:ea typeface="굴림"/>
              </a:rPr>
              <a:t>)</a:t>
            </a:r>
            <a:endParaRPr b="0" lang="en-US" sz="1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neral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100,210 k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(38,691 m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) (3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about 1/100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Population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50 million (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about 1/6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GDP (nominal)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$1.163 trillion (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Berlin Sans FB"/>
                <a:ea typeface="굴림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1/15 of USA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apital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eoul (9.8 million inhabitants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thnic group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Korean (&gt;99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Religion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Buddhism (23%), Protestant (18%), Catholic (11%), Others (1%), No religion (47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Geography &amp; Climat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Peninsula surrounded by Yellow, East, and South (Pacific) Sea 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Mountainous (&gt;70%)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umid continental to humid subtropical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Distinct four seasons with stormy summer.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612720" y="479520"/>
            <a:ext cx="2809800" cy="5257800"/>
          </a:xfrm>
          <a:prstGeom prst="rect">
            <a:avLst/>
          </a:prstGeom>
          <a:ln w="0">
            <a:noFill/>
          </a:ln>
        </p:spPr>
      </p:pic>
      <p:sp>
        <p:nvSpPr>
          <p:cNvPr id="97" name="직사각형 3"/>
          <p:cNvSpPr/>
          <p:nvPr/>
        </p:nvSpPr>
        <p:spPr>
          <a:xfrm>
            <a:off x="263520" y="5877000"/>
            <a:ext cx="35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www.newworldencyclopedia.org/entry/Korean_Peninsu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635280" y="479520"/>
            <a:ext cx="3969000" cy="2903400"/>
          </a:xfrm>
          <a:prstGeom prst="rect">
            <a:avLst/>
          </a:prstGeom>
          <a:ln w="0">
            <a:noFill/>
          </a:ln>
        </p:spPr>
      </p:pic>
      <p:sp>
        <p:nvSpPr>
          <p:cNvPr id="99" name="직사각형 4"/>
          <p:cNvSpPr/>
          <p:nvPr/>
        </p:nvSpPr>
        <p:spPr>
          <a:xfrm>
            <a:off x="7746840" y="549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kgreenpeo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3"/>
          <a:stretch/>
        </p:blipFill>
        <p:spPr>
          <a:xfrm>
            <a:off x="3819600" y="3500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5"/>
          <p:cNvSpPr/>
          <p:nvPr/>
        </p:nvSpPr>
        <p:spPr>
          <a:xfrm>
            <a:off x="2916360" y="6378480"/>
            <a:ext cx="518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blog.joinsmsn.com/media/folderListSlide.asp?uid=drjhoon&amp;folder=42&amp;list_id=106447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27032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4694400" y="476280"/>
            <a:ext cx="4279680" cy="2808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02120" y="603900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Seoul,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3"/>
          <a:stretch/>
        </p:blipFill>
        <p:spPr>
          <a:xfrm>
            <a:off x="282600" y="3086280"/>
            <a:ext cx="4238640" cy="2806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4"/>
          <a:stretch/>
        </p:blipFill>
        <p:spPr>
          <a:xfrm>
            <a:off x="4694400" y="3433680"/>
            <a:ext cx="4324320" cy="2227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Industrie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Information Technology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Hyundai, SK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Electronic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amsung, LG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Automobile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Hyundai, KIA, GM Daewoo, Reno Samsung, Ssangyong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hipbuilding: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yundai, Hanjin, Daewo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Steel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POSKO, Hyundai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Berlin Sans FB"/>
                <a:ea typeface="굴림"/>
              </a:rPr>
              <a:t>Chemicals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: SK, Yukong, KCC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Berlin Sans FB"/>
                <a:ea typeface="굴림"/>
              </a:rPr>
              <a:t>Others</a:t>
            </a: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 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UNESCO World heritage site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Home of Taekwondo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ruce with North Korea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Baseball &amp; soccer are the nationwide popular sports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Foods &amp; drinks of her own</a:t>
            </a:r>
            <a:endParaRPr b="1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u</cp:lastModifiedBy>
  <dcterms:modified xsi:type="dcterms:W3CDTF">2012-08-09T01:22:41Z</dcterms:modified>
  <cp:revision>31</cp:revision>
  <dc:subject/>
  <dc:title>KOREAN LANGUAGE</dc:title>
</cp:coreProperties>
</file>